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C61-89C3-4A41-AD9F-0DCE4C1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2F5-3DD3-4AEE-BDFD-B56EFE9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514-E225-4F5E-A0CC-3CA146F8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F88-E482-42A4-A18C-2C68980C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3BD-2140-46B2-9DD7-B7A6C19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38F-7087-4D76-8DB8-91FA0F5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845-0E87-4EB5-8B24-9F61A2A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BB8-61FF-4638-920B-2D6D9A3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89C-3A25-41BC-A7B5-6067856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0E7-A4C5-48EE-B0AB-0E5978E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0A9-D461-4170-AB8D-1DE96E5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D52-81D3-42E9-8F8D-93B5642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D903-6FB0-4B81-B6AD-3479FE48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Arial"/>
              </a:rPr>
              <a:t>NOTES IN-TEXT CI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57920" y="0"/>
            <a:ext cx="2386080" cy="156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86080" cy="156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41324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Question 9: How do we define the personality traits of a hero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 hero has to be willing to sacrifice his life to rescue the other person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10:what did my hero risk saving peoples l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y hero risked his own life trying to save the people in trouble. And for the people that are trapped in the building that have a  injury or girder o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1.How did you decide to become a firefig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He was driving home and went by the firehouse and he decided that he wanted to become a fire fighter. (Bai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2.who was your inspi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He inspired himself to become a firefighter nobody in his family was a firefighter. And once he decided to become a firefighter he decided he wanted to do it for the rest of h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URCE: (Bai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3. How do you train for falling buildings and forest f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Firefighters train by going at high speed to set up ladders and the hoses to save people stuck inside the bui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Also you have to take some classes and learn from that knew more or from older firefi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Source: http://resources.courseadvisor.com/career-training/firefi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4:what are the important steps to becoming a firefi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1.you have to make sure that you are ready to commit and make a decision to become a volunteer firefi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2.Once you figure out were you want to be a volunteer you have to call the fire department to see if they have any volunt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5.How are firefighters in New York state get honored as her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me firefighters get recognized by getting awards like firefighter of the year and the fire achievement a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6. How does a firefighter make decis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 firefighters judgment is recognized as the greatest impact or fin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firefighters have to make their decisions fast or else their hard decision making will come with 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7.What are the challenges for training and keeping volunteer firefigh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Most of the departments have the firefighters train 20 to 100 hours a month or even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me challenges are the firefighters trying to inspect the chimn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8.Why do people always call for your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eople always call for a firefighters help because they know that a firefighter will try to do the best they can do to help the person that is in da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9:22:14Z</dcterms:created>
  <dc:creator>13kaddin</dc:creator>
  <dc:description/>
  <dc:language>en-US</dc:language>
  <cp:lastModifiedBy>13kaddin</cp:lastModifiedBy>
  <dcterms:modified xsi:type="dcterms:W3CDTF">2012-03-20T18:27:40Z</dcterms:modified>
  <cp:revision>10</cp:revision>
  <dc:subject/>
  <dc:title>NOTES IN-TEXT CITATION   </dc:title>
</cp:coreProperties>
</file>